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9EC-3301-4805-B3AC-D443A982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EB0-1C3B-4019-8AD2-FF9C5B4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13F-0EE2-4178-A14F-3E1A524F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28D-ECF0-487C-B7CB-16FE5889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CE6-CAEF-4298-969D-12C6AAE5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A4-EBD4-459A-A66B-4047C86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524-3D73-4FE6-92EE-46945CB9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03F-D81A-4064-87B9-88E1B084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4AD-26EE-4A2F-B7F2-C105564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754-1E51-40C5-B2D9-6D04F29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953-E9AE-4C2D-84F0-59FA130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643-EA40-4A29-A53A-04361B5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EC0-0398-49E3-9B04-C559732CE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جداول الضرب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إل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685800"/>
            <a:ext cx="2743200" cy="48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533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242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3200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24280" y="3733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4267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2428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5257800"/>
            <a:ext cx="342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1295280"/>
            <a:ext cx="19810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نهاي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10080" y="5638680"/>
            <a:ext cx="31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إعداد:طارق المنش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80880"/>
            <a:ext cx="18288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2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3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4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5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6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7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8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9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0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457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1600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0400" y="22096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240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4876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5486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990720"/>
            <a:ext cx="1523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2057400" cy="62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81280" y="2286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8380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81280" y="1447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05320" y="2743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05320" y="3276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532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05320" y="4648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05320" y="5257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1219320"/>
            <a:ext cx="13716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71600" y="457200"/>
            <a:ext cx="2133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04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988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98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4724280"/>
            <a:ext cx="1908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988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98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1295280"/>
            <a:ext cx="1676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23880" y="457200"/>
            <a:ext cx="221004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848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6252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6252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6252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6252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6252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6252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1600200"/>
            <a:ext cx="2362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380880"/>
            <a:ext cx="23619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228600"/>
            <a:ext cx="11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67080" y="914400"/>
            <a:ext cx="2667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67080" y="1447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708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670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67080" y="3352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67080" y="4038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67080" y="5181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6708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77120" y="129528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4572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808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914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3429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5105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5715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00800" y="1219320"/>
            <a:ext cx="1828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6858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6094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143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752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00600" y="2362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971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060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0060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0060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3080" y="1371600"/>
            <a:ext cx="1676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533520"/>
            <a:ext cx="281916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24280" y="990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24280" y="2209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242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2428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42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72200" y="1371600"/>
            <a:ext cx="1905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4:30Z</dcterms:created>
  <dc:creator>kaap</dc:creator>
  <dc:description/>
  <dc:language>en-US</dc:language>
  <cp:lastModifiedBy>kaap</cp:lastModifiedBy>
  <dcterms:modified xsi:type="dcterms:W3CDTF">2009-01-22T14:15:5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ward To">
    <vt:lpwstr>جداول</vt:lpwstr>
  </property>
</Properties>
</file>